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03200" y="683280"/>
            <a:ext cx="4495680" cy="33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10280" y="4271400"/>
            <a:ext cx="568188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my notes for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">
            <a:hlinkClick r:id="" action="ppaction://hlinkshowjump?jump=endshow"/>
          </p:cNvPr>
          <p:cNvSpPr/>
          <p:nvPr/>
        </p:nvSpPr>
        <p:spPr>
          <a:xfrm>
            <a:off x="843120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" action="ppaction://hlinkshowjump?jump=lastslide"/>
          </p:cNvPr>
          <p:cNvSpPr/>
          <p:nvPr/>
        </p:nvSpPr>
        <p:spPr>
          <a:xfrm>
            <a:off x="7896240" y="0"/>
            <a:ext cx="460440" cy="576360"/>
          </a:xfrm>
          <a:custGeom>
            <a:avLst/>
            <a:gdLst>
              <a:gd name="textAreaLeft" fmla="*/ 29520 w 460440"/>
              <a:gd name="textAreaRight" fmla="*/ 430920 w 460440"/>
              <a:gd name="textAreaTop" fmla="*/ 29520 h 576360"/>
              <a:gd name="textAreaBottom" fmla="*/ 546840 h 576360"/>
            </a:gdLst>
            <a:ahLst/>
            <a:rect l="textAreaLeft" t="textAreaTop" r="textAreaRight" b="textAreaBottom"/>
            <a:pathLst>
              <a:path w="21600" h="27034">
                <a:moveTo>
                  <a:pt x="0" y="0"/>
                </a:moveTo>
                <a:lnTo>
                  <a:pt x="21600" y="0"/>
                </a:lnTo>
                <a:lnTo>
                  <a:pt x="21600" y="27034"/>
                </a:lnTo>
                <a:lnTo>
                  <a:pt x="0" y="27034"/>
                </a:lnTo>
                <a:close/>
              </a:path>
              <a:path fill="lightenLess" w="21600" h="270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4">
                <a:moveTo>
                  <a:pt x="21600" y="0"/>
                </a:moveTo>
                <a:lnTo>
                  <a:pt x="21600" y="27034"/>
                </a:lnTo>
                <a:lnTo>
                  <a:pt x="20200" y="25634"/>
                </a:lnTo>
                <a:lnTo>
                  <a:pt x="20200" y="1400"/>
                </a:lnTo>
                <a:close/>
              </a:path>
              <a:path fill="darkenLess" w="21600" h="27034">
                <a:moveTo>
                  <a:pt x="21600" y="27034"/>
                </a:moveTo>
                <a:lnTo>
                  <a:pt x="0" y="27034"/>
                </a:lnTo>
                <a:lnTo>
                  <a:pt x="1400" y="25634"/>
                </a:lnTo>
                <a:lnTo>
                  <a:pt x="20200" y="25634"/>
                </a:lnTo>
                <a:close/>
              </a:path>
              <a:path fill="lighten" w="21600" h="27034">
                <a:moveTo>
                  <a:pt x="0" y="270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7459560" y="111240"/>
            <a:ext cx="362160" cy="36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firstslide"/>
          </p:cNvPr>
          <p:cNvSpPr/>
          <p:nvPr/>
        </p:nvSpPr>
        <p:spPr>
          <a:xfrm>
            <a:off x="304920" y="266760"/>
            <a:ext cx="736560" cy="749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78040" y="912960"/>
            <a:ext cx="6423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The Formation of Western Europe,</a:t>
            </a:r>
            <a:br>
              <a:rPr sz="3000"/>
            </a:b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800–1500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73360" y="1936800"/>
            <a:ext cx="681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s embark on the Crusades, develop new commercial and political systems, and suffer through bubonic plague and the Hundred Years' Wa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71200" y="1598760"/>
            <a:ext cx="46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Crusading Spirit Dwind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3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773360" y="2174760"/>
            <a:ext cx="6168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ter Crus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urth Crusade: Crusaders loot Constantinop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12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wo other Crusades strike Egypt, but fail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eaken Musli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73360" y="3652920"/>
            <a:ext cx="5419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Children’s Crus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1212 thousands of children die or are enslav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failed crus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73360" y="4567320"/>
            <a:ext cx="58100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Spanish Crus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st of Spain controlled by Moors, a Muslim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hristians fight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Reconquis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drive Muslim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om Spain, 1100 to 14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pain ha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Inquis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court to suppress heresy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pels non-Christia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74080" y="1598760"/>
            <a:ext cx="42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Effects of the Crusa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4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773360" y="2174760"/>
            <a:ext cx="5445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Crusades Change 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rusades show power of Church in convinc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ousands to figh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omen who stay home manage the estate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siness affai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rchants expand trade, bring back many goo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om Southwest A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ailure of later crusades weakens pope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bles, strengthens k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rusades create lasting bitterness betwe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slims and Christia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0160" y="4035600"/>
            <a:ext cx="595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feudal system declines as agriculture, trade, finance, towns, and universities devel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370160" y="2397240"/>
            <a:ext cx="6800400" cy="1581480"/>
            <a:chOff x="1370160" y="2397240"/>
            <a:chExt cx="6800400" cy="1581480"/>
          </a:xfrm>
        </p:grpSpPr>
        <p:sp>
          <p:nvSpPr>
            <p:cNvPr id="150" name=""/>
            <p:cNvSpPr/>
            <p:nvPr/>
          </p:nvSpPr>
          <p:spPr>
            <a:xfrm>
              <a:off x="1370160" y="2397240"/>
              <a:ext cx="431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0160" y="2787480"/>
              <a:ext cx="6800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Changes in Medieval Society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70480" y="1827360"/>
            <a:ext cx="37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A Growing Food Supp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70160" y="885960"/>
            <a:ext cx="551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Changes in Medieval Society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73360" y="2403360"/>
            <a:ext cx="58640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nges in Agricul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om 800 to 1200 the climate warms, opening mo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nd to far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hanges in technology result in more food 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59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73360" y="3648240"/>
            <a:ext cx="58100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witch to Horse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arnessed horses replace oxen in pulling plows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ag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orses plow three times as much a day, increas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od supp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73360" y="5172120"/>
            <a:ext cx="58100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Three-Field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ound 800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three-field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used—plant tw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elds, let one r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produces more food and leads to popul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72640" y="159876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Guil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73360" y="2174760"/>
            <a:ext cx="544500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ment of Gui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Guil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—organization of people in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me occup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rchant guilds begin first; they keep prices up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 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killed artisans, men and women, form craf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ui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uilds set standards for quality, prices, wage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orking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uilds supervise training of new members of thei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r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wealth of guilds influences government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conom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7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73720" y="1598760"/>
            <a:ext cx="36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Commercial Revol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73360" y="2174760"/>
            <a:ext cx="54450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airs and T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 see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Commercial Revol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chang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business and t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ade fairs are held several times a year in tow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ade routes open to Asia, North Africa,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yzantine 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79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73360" y="395748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usiness and Ban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rchants develop credit to avoid carrying lar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ms of mon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rchants take out loans to purchase goods,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anking gr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73360" y="5472000"/>
            <a:ext cx="5736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ciety 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conomic changes lead to the growth of cities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paying job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73000" y="159876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Urban Life Flourish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73360" y="2174760"/>
            <a:ext cx="54450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rowing Urban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000–1150, Europe’s population rises from 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llion to 42 m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st towns are small, but they help drive chan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9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73360" y="342432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ade and Towns Grow Toge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wns are uncomfortable: crowded, dirty, full of fi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az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rfs can become free by living in a town for a ye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 a 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73360" y="494820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rchant Class Shifts the Social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eudal lords tax and govern towns, caus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en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wns are taken over by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burgh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tow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rcha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73360" y="1598760"/>
            <a:ext cx="370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Revival of Lear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73360" y="2174760"/>
            <a:ext cx="5445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Muslim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hristian scholars read translations of Gree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orks made by Musli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rusaders return with Muslim knowledge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ion, ships, weap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20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73360" y="369108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cholars and th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roups of scholars gather to teach and learn; for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ivers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ritten works not in Latin but in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vernacul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veryday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73360" y="521496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quinas and Medieval Philoso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Thomas Aquin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a religious scholar, mixes Gree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 Christian thou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e is a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scholas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university man; debates issu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increase 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1370520" y="2486160"/>
            <a:ext cx="5802840" cy="1640520"/>
            <a:chOff x="1370520" y="2486160"/>
            <a:chExt cx="5802840" cy="1640520"/>
          </a:xfrm>
        </p:grpSpPr>
        <p:sp>
          <p:nvSpPr>
            <p:cNvPr id="208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70520" y="2867040"/>
              <a:ext cx="5802840" cy="12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England and France </a:t>
              </a:r>
              <a:br>
                <a:rPr sz="4500"/>
              </a:b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Develop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370160" y="4148280"/>
            <a:ext cx="60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 the kingdoms of England and France begin to develop into nations, certain democratic traditions evol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74080" y="1827360"/>
            <a:ext cx="55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England Absorbs Waves of Invad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73360" y="2403360"/>
            <a:ext cx="57880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arly Inva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nish Vikings invade England throughout the 800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fred the Great and his successors gradually uni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g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nish king Canute invades in 1016, uniting Viking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 Anglo-Sax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18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73360" y="4210200"/>
            <a:ext cx="57880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Norman Con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1066, England is invaded for last time by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William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the Conquer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e defeats his rival for English crown, becomes 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illiam keeps one-fifth of land; hands out rest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69440" y="885960"/>
            <a:ext cx="5516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England and France Develop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78040" y="912960"/>
            <a:ext cx="6423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The Formation of Western Europe,</a:t>
            </a:r>
            <a:br>
              <a:rPr sz="3000"/>
            </a:b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800–15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2046240" y="251136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" action="ppaction://hlinksldjump"/>
          </p:cNvPr>
          <p:cNvSpPr/>
          <p:nvPr/>
        </p:nvSpPr>
        <p:spPr>
          <a:xfrm>
            <a:off x="2046240" y="307332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3" action="ppaction://hlinksldjump"/>
          </p:cNvPr>
          <p:cNvSpPr/>
          <p:nvPr/>
        </p:nvSpPr>
        <p:spPr>
          <a:xfrm>
            <a:off x="2046240" y="3606840"/>
            <a:ext cx="1741680" cy="3808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46240" y="4140360"/>
            <a:ext cx="1741680" cy="3808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1920" y="2502000"/>
            <a:ext cx="406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urch Reform and the Crusa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45880" y="3078000"/>
            <a:ext cx="35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nges in Medieval Socie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45520" y="3591000"/>
            <a:ext cx="35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gland and France Devel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43000" y="4129200"/>
            <a:ext cx="485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Hundred Years’ War and the Plag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72280" y="1598760"/>
            <a:ext cx="495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England’s Evolving Gover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73360" y="2174760"/>
            <a:ext cx="54450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ing and Vas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glish rulers’ goal: to control lands in bot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gland and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Henry 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king of England—gains more Frenc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nd through marri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enry is king in England and a vassal in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73360" y="3967200"/>
            <a:ext cx="57369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uries and Common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enry sends judges to all parts of England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titutes ju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judges’ decisions form English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common la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ified body of la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mon law forms the basis of law in m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glish-speaking count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3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74800" y="2174760"/>
            <a:ext cx="54658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Magna Ca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1215 English nobles force King John to sig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gna Ca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Magna Car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limits king’s power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uarantees basic political r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glish people argue the rights are for all peopl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t just no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81640" y="1690560"/>
            <a:ext cx="412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England’s Evolving Govern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73360" y="4243320"/>
            <a:ext cx="57369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Model Parlia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1295, Edward I summons wealthy townsmen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nights to raise ta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gether with bishops and lords, they form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parlia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legislative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liament has two houses: House of Lords, Hou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Comm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4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76240" y="159876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Capetian Dynasty Rules Fr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73360" y="2174760"/>
            <a:ext cx="5445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End of the Carolingi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French dynasty founded by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Hugh Cap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uke from central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Capetians rule France from Paris from 987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3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73360" y="3662280"/>
            <a:ext cx="5736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ance Becomes a Separate King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arly Capetians are weak rulers; gradually king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come stron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5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1773360" y="4643280"/>
            <a:ext cx="5736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hilip II Expands His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Philip 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a powerful Capetian, rules 1180–1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hilip expands land controlled by French 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e establishes bailiffs to collect taxes and run cou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5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74800" y="2174760"/>
            <a:ext cx="54658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hilip II’s He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226 to 1270 grandson Louis IX strengthens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entral 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285 to 1314 Philip IV rules; questions pope’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uthority in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hilip calls meeting of lords and bishops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his poli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e decides to include commoners in the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79840" y="1690560"/>
            <a:ext cx="403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Capetian Dynasty Rules Fra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6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5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74800" y="4203720"/>
            <a:ext cx="546588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ginnings of Democ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gland and France begin to establish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mocratic tra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centralized government is created to ru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idespread l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mon law and court system support a cent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overnmen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moners included in decision mak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779840" y="1690560"/>
            <a:ext cx="403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Capetian Dynasty Rules Fra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7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1773360" y="2171880"/>
            <a:ext cx="65404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ates-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meeting is called the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Estates-General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ants in the council come from France’s three E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rst Estate—Church lea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ond Estate—l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ird Estate—commoners, landholder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rcha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369800" y="2486160"/>
            <a:ext cx="6979320" cy="1640520"/>
            <a:chOff x="1369800" y="2486160"/>
            <a:chExt cx="6979320" cy="1640520"/>
          </a:xfrm>
        </p:grpSpPr>
        <p:sp>
          <p:nvSpPr>
            <p:cNvPr id="279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369800" y="2867040"/>
              <a:ext cx="6979320" cy="12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The Hundred Years’ War </a:t>
              </a:r>
              <a:br>
                <a:rPr sz="4500"/>
              </a:b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and the Plague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1370160" y="4167360"/>
            <a:ext cx="60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1300s, Europe was torn apart by religious strife, the bubonic plague, and the Hundred Years’ W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50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74440" y="182736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A Church Divi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68720" y="941400"/>
            <a:ext cx="460476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The Hundred Years’ War</a:t>
            </a:r>
            <a:br>
              <a:rPr sz="3000"/>
            </a:b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and the Plagu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73360" y="2403360"/>
            <a:ext cx="57880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pe and King Coll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1300, Pope Boniface VIII asserts authority ov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ance’s Philip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hilip has him imprisoned; pope dies soon 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73360" y="3657600"/>
            <a:ext cx="57117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vignon and the Great Sch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1305, French pope is chosen; moves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Avign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city in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1378, two popes chosen—one in Rome, one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vign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ach declares the other false, causing split call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Great Sch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1417, Council of Constance ends schism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hooses Martin V as po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9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74800" y="2174760"/>
            <a:ext cx="5465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cholars Challenge Church Auth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glishman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John Wycliff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gues Jesus is he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the Church, not p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ycliffe preaches against wealth and worldline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cl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ycliffe inspires English translation of Ne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sta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Jan H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Bohemian professor—teaches th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ible is final author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us is excommunicated, tried as a heretic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rned at stake in 141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78400" y="1690560"/>
            <a:ext cx="27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 Church Divid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0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73360" y="1598760"/>
            <a:ext cx="42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Bubonic Plague Strik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73360" y="2174760"/>
            <a:ext cx="5445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rigins and Impact of the Pla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1300s, Europe suffer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bubonic plag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tremely deadly dise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gins in Asia; spreads to Italy and oth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untries over trade ro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bout one-third of Europe’s population dies in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pidem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1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1774800" y="4270320"/>
            <a:ext cx="54658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s of the Pla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wn populations fall, trade declines, prices r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me serfs leave manors for paying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y Jews blamed and killed; Church suffe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eakened sta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74080" y="159876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Hundred Years’ W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773360" y="2174760"/>
            <a:ext cx="54450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gland and 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Hundred Years’ W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lasts from 1337–1453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tween England and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glish king Edward III claims French thr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ar marks the end of medieval society; chan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style of warf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2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1774800" y="3984480"/>
            <a:ext cx="54658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Longbow Changes Warf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1346, English army with longbows beats muc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rger French ar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English win other victories with longbows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356 and 14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ictory of longbows signals end of reliance 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nigh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5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370520" y="2486160"/>
            <a:ext cx="6532920" cy="1640520"/>
            <a:chOff x="1370520" y="2486160"/>
            <a:chExt cx="6532920" cy="1640520"/>
          </a:xfrm>
        </p:grpSpPr>
        <p:sp>
          <p:nvSpPr>
            <p:cNvPr id="61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70520" y="2867040"/>
              <a:ext cx="6532920" cy="12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Church Reform and the</a:t>
              </a:r>
              <a:br>
                <a:rPr sz="4500"/>
              </a:b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Crusades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374840" y="4132440"/>
            <a:ext cx="612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Catholic Church undergoes reform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unches Crusades against Musli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74800" y="2174760"/>
            <a:ext cx="546588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oan of A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Joan of Ar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French peasant girl who believ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visions of s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he leads French army to victory at Orléans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harles VII crowned 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1430 England’s allies, the Burgundian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pture Joan in bat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Church condemns Joan as a witch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eret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n May 30, 1431, she is burned at the stak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78400" y="1690560"/>
            <a:ext cx="336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he Hundred Years’ W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3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5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774800" y="2174760"/>
            <a:ext cx="5465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act of the Hundred Years’ W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undred Years’ War ends in 145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ance and England experience major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ise in nationalistic feelings; king becom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tional l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wer and prestige of French monarc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ligious devotion and the code of chival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rum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gland begins period of turmoil, War of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o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78400" y="1690560"/>
            <a:ext cx="336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he Hundred Years’ W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4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2344680" y="2827440"/>
            <a:ext cx="61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his is the end of the chapter presentation of lecture notes. Click the HOME or EXIT butt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1880" y="6010200"/>
            <a:ext cx="495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0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8402760" y="6443640"/>
            <a:ext cx="512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BAC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" action="ppaction://hlinkshowjump?jump=endshow"/>
          </p:cNvPr>
          <p:cNvSpPr/>
          <p:nvPr/>
        </p:nvSpPr>
        <p:spPr>
          <a:xfrm>
            <a:off x="8431200" y="111240"/>
            <a:ext cx="361800" cy="36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>
            <a:hlinkClick r:id="" action="ppaction://hlinkshowjump?jump=firstslide"/>
          </p:cNvPr>
          <p:cNvSpPr/>
          <p:nvPr/>
        </p:nvSpPr>
        <p:spPr>
          <a:xfrm>
            <a:off x="304920" y="266760"/>
            <a:ext cx="736560" cy="749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>
            <a:hlinkClick r:id="" action="ppaction://hlinkshowjump?jump=previousslide"/>
          </p:cNvPr>
          <p:cNvSpPr/>
          <p:nvPr/>
        </p:nvSpPr>
        <p:spPr>
          <a:xfrm>
            <a:off x="8408880" y="6045120"/>
            <a:ext cx="438120" cy="43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05160" y="1274760"/>
            <a:ext cx="54579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 Slide S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O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nu, 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 In the pop-up menu, 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soft PowerPoi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dialog box does not include this pop-up, continue to step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 wh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x, choose the presentation format you want to print: slides, notes, handouts, or out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Click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utton to print the PowerPoint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>
            <a:hlinkClick r:id="" action="ppaction://hlinkshowjump?jump=firstslide"/>
          </p:cNvPr>
          <p:cNvSpPr/>
          <p:nvPr/>
        </p:nvSpPr>
        <p:spPr>
          <a:xfrm>
            <a:off x="7459560" y="111240"/>
            <a:ext cx="362160" cy="36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411120" y="1644480"/>
            <a:ext cx="2816280" cy="210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72640" y="182736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Age of Fa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68000" y="941400"/>
            <a:ext cx="63619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Times New Roman"/>
              </a:rPr>
              <a:t>Church Reform and the Crusad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73360" y="2403360"/>
            <a:ext cx="59148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piritual Revi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arting in 900s, monasteries help bring about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piritual revi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formers help restore and expand Church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73360" y="3660840"/>
            <a:ext cx="558144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blems in the Chu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me Church officials marry even though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hurch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me officials practice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simo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selling religio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f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ings use lay investiture to appoint bish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formers believe only the Church should appoi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ish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7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79840" y="1690560"/>
            <a:ext cx="25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he Age of Fai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8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73360" y="2174760"/>
            <a:ext cx="58006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orm and Church 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arting in 1100s, popes reorganize Church like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ingd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pe’s advisors make Church laws; diplomats trave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out 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hurch collects tithes; uses money to care for sick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73360" y="426096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w Religious Or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can and Franciscan orders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iars in these orders vow poverty; travel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ach to the p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me new orders for women are found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73000" y="1598760"/>
            <a:ext cx="40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Cathedrals—Cities of G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9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773360" y="217476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arly Cathedr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tween 800–1100, churches are built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omanesque sty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yle includes thick walls and pillars, smal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indows, round 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73360" y="3660840"/>
            <a:ext cx="57369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New Style of Church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Goth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yle evolves around 1100; term fr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rmanic tribe, Go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othic style has large, tall windows for more ligh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inted arch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hurches have stained glass windows, m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culp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bout 500 Gothic churches are built from 1170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27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75880" y="159876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he Crusa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0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1773360" y="2174760"/>
            <a:ext cx="5607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Beginning of the Crus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1093, Byzantine emperor asks for help fight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Tu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pe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Urban 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ssues a call for a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Crusa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a “ho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a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73360" y="3672000"/>
            <a:ext cx="54194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oals of the Crus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pe wants to reclaim Jerusalem and reuni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hristia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ings use the Crusades to send away knigh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ho cause trou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ounger sons hope to earn land or win glory b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gh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ter, merchants join Crusades to try to ga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ealth through t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77320" y="1690560"/>
            <a:ext cx="23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he Crusa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1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73360" y="2174760"/>
            <a:ext cx="58006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First and Second Crus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pe promises Crusaders who die a place in heav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rst Crusade: three armies gather at Constantinop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10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rusaders capture Jerusalem in 109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ptured lands along coast divided into fou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rusader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slims take back Edessa in 1144; Second Crusad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ails to retake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1187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Salad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Muslim leader and Kurdis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arrior—retakes Jerusal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77320" y="1690560"/>
            <a:ext cx="23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he Crusa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2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73360" y="2174760"/>
            <a:ext cx="580068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Third Crus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ird Crusade led by three powerful ru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ne i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Richard the Lion-Hear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king of Eng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hillip II of France abandons Crusade after argu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ith Rich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ederick I of Germany drowns during the journ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1192 Richard and Saladin make peace after m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att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ladin keeps Jerusalem but allows Christia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ilgrims to enter c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21:09:30Z</dcterms:created>
  <dc:creator>McDougal Littell</dc:creator>
  <dc:description/>
  <dc:language>en-US</dc:language>
  <cp:lastModifiedBy>Amy Kalas</cp:lastModifiedBy>
  <cp:lastPrinted>2003-11-12T20:33:16Z</cp:lastPrinted>
  <dcterms:modified xsi:type="dcterms:W3CDTF">2007-11-30T02:27:37Z</dcterms:modified>
  <cp:revision>835</cp:revision>
  <dc:subject/>
  <dc:title>No Slide Title</dc:title>
</cp:coreProperties>
</file>